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e9b03"/>
              </a:gs>
              <a:gs pos="100000">
                <a:srgbClr val="114ffb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kills Assignment -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Additional Le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Friday 12th June (Next Friday); Lecture Theatre 3, 3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Approximately 1 hour; Laurence Bou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Will be videota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Collect assignment question from level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Assignment is due Week 7, June 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990720" y="152280"/>
            <a:ext cx="71629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Vested Remainders -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990720" y="1523880"/>
            <a:ext cx="7162920" cy="461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-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several vested remainders may be crea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eg. Blackacre to A for life, then to B for life, then to C for life, then to D in fee si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B, C &amp; D all have vested remaind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-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2 elements which must be present for a vested remain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1. The person or persons entitled to take the estate in remainder must be ascer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2. There must be no condition precedent attached to the estate other than the termination of all preceding e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Contingent Remainders -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- eg. G: Transfers Blackacre to A for life, then to B in fee simple if B becomes a Certified Practicing Accountant (CPA) in A’s life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The fee simple remainder to B is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contingen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until B becomes a CPA within A’s life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If B never becomes a CPA, on A’s death the fee simple reverts to 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Contingent Remainders -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-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eg. G: to H for life, remainder to J in fee simple provided J reaches 2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J - fee simple is contingent until 21, then ves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-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eg. G: to A for life, then to the eldest son of A living at A’s death in fee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mainder to A’s eldest son is contingent until A’s dea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Contingent Remainders -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-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eg. G: To S and T for their joint lives, remainder in fee simple to the surviv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J &amp; T - joint life estates in posse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The remainder fee simple interest remains contingent until one d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- Summary: A remainder is contingent if either of the two elements for vesting are not m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990720" y="3049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Origins Of Equ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990720" y="1447920"/>
            <a:ext cx="7162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Parallel to the common law courts, the court of equity develop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igidity of the common law meant that the common law often offered no remedy. A person denied a remedy could approach the court of Chanc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Courts of common law and equity were separate and distinct until the Judicature Act. Judicature Act adopted in all Australian st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990720" y="22860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ru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990720" y="11430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-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Fedual burdens: ‘use’ developed to avoid burdens. The ‘use’ is the origin of the modern tru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-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Arise when a person (called a ‘trustee’) holds property for the benefit of another person (called a ‘beneficiary’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eg. G: Blackacre to X in fee simple on trust for B and C in fee si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X - trustee; B &amp; C - benefici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-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Trustee under strict duties in equity and under Qld Trusts A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Origin &amp; Development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Of The ‘Use’ -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90720" y="2209680"/>
            <a:ext cx="71629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-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Origins in early 13th century. Knight would convey his land to a trusted friend on behalf of wife and child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Trusted friend - legal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Wife/Children - equitable inte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-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Wife/Children could seek no redress from common law, but could seek assistance from equ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Origin &amp; Development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Of The ‘Use’ -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-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The use became a very popular vehicle for the avoidance of feudal burd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-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Henry VIII; the Statute of Uses 15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Aim was to abolish uses and restore heavy death duties. Reality: medieval lawyers just created ‘double uses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-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Property Law Act 1974 s7 - not necessary today to create a ‘double use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Equitable Estates To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-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eg. G: Blackacre to X in fee simple on trust for B and C in fee si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X (trustee) - holds legal fee simple est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B &amp; C (beneficiaries) - hold joint equitable estates in fee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-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for every legal estate there may exist a parallel equitable e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Equitable vs Leg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“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An equitable estate is inferior to a legal estate because it may be overriden by a legal estate in one situation: where an owner of the legal estate has purchased the property bona fide, for value and without notice of the existence of the prior equitable interest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- Real Property Law in Qld p137 paraphra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uccessive enjoyment -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Grantor G: Grants Blackacre to Widow (W) for life, then to Daughter (D) for life, then to Son (S) in fee si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W has a life estate in poss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 has a life estate in expecta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S has a fee simple estate in expecta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Legal &amp; Equitable Remain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-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eg. G: Blackacre to A for life, then to B in fee si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A - legal life estate in posse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B - legal fee simple remain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-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eg. G: Blackacre to X in fee simple on trust for A for life, then to B in fee si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X - legal fee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A - equitable life estate in posse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B - equitable fee simple remain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Executory Interests -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-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Sometimes a grant creates a “gap” between estates or “cuts off” a previous estate before its natural termination. Such grants may be described as executory intere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-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“Executory interests are future interests which are not reversions or remainders and which do not wait for the natural termination of a particular estat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990720" y="3808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Executory Interests -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990720" y="1828800"/>
            <a:ext cx="7162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-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eg. G: Blackacre to X in fee simple upon trust for A for life, then, after the expiry of one year from A’s death, to B in fee si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NB: the 1 year “gap” before B’s equitable fee simple inte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-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eg. G: Blackacre to X in fee simple on trust for A in fee simple, but when A reaches 65 years of age, then to B in fee si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NB: A’s equitable fee simple estate is “cut off” at 65 and shifts over to 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990720" y="22860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Estates in Posse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90720" y="1371600"/>
            <a:ext cx="7162920" cy="51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-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The holder has an immediate right to possesion and enjoyment of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-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Glenn v Federal Commissioner of Land Tax (SG p28): “The essential element of an estate in possession is that the owner of it has a present right of beneficial enjoyment, whether accompanied by actual physical possession of the land or not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-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Hence a person may have an estate in possession, yet their property is physically occupied by a tenant under a le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Estates in expecta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-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The holder has a right to possession and enjoyment of land at some future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-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Two typ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1. revers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2. remain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990720" y="30492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Reversions -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90720" y="129528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-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versions occur when a grantor grants a lesser estate. At the termination of that lesser estate, possession of the land ‘reverts back’ to the gran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-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eg. G (fee simple owner): Grants Blackacre to A for lif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A has a life estate in poss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G has a fee simple re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- Reversions are automatic: they arise from the operation of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990720" y="228600"/>
            <a:ext cx="71629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Reversions -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990720" y="1371600"/>
            <a:ext cx="71629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-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“landlord’s revers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eg. G (fee simple owner): Grants a lease of Blackacre to B for 7 ye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B has a leasehold estate for 7 ye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G has a fee simple rever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-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sales of properties under lease comm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Summary: A reversion arises whenever the owner of an estate grants a smaller estate but does not dispose of the whole of their inter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990720" y="304920"/>
            <a:ext cx="71629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Remainders -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90720" y="1447920"/>
            <a:ext cx="7162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-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A remainder occurs when the owner of the fee simple grants a smaller estate to one person and then,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in the same instrumen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, grants another estate in the same land which will take effect on the termination of the prior e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-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eg. G: Blackacre to A for life, then to B for lif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A has a life estate in posse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B has a life estate in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mainde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, as it takes effect when A’s life estate comes to an 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G has a fee simple rever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Remainders -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-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G: Blackacre to A for life, then to B for life, then to C in fee si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A - life estate in posses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B - life esate in remai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C holds a fee simple remai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-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If B dies before A, possession of the death of A will pass directly to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990720" y="457200"/>
            <a:ext cx="71629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Vested Remainders -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990720" y="2057400"/>
            <a:ext cx="71629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-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A vested remainder is one which gives its owner an unqualified right to possession of the land as soon as the prior estate comes to an 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-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eg. G: Transfers Blackacre to A for life, remainder to B in fee si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A has a life estate in poss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B has a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veste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fee simple remai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ystems Manager</dc:creator>
  <dc:description/>
  <dc:language>en-US</dc:language>
  <cp:lastModifiedBy>Systems Manager</cp:lastModifiedBy>
  <cp:revision>0</cp:revision>
  <dc:subject/>
  <dc:title>Choses in Action</dc:title>
</cp:coreProperties>
</file>