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3049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iority Under The Deeds Registr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67652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gives priority over instruments that ar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registe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r are registered at a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ter time.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holds the fee simple estate in Black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grants a $50,000 mortgage to 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d 1 June 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then grants a $100,000 mortgage to Z,  dated 15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Z registers his mortgage on 17 July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Y registers his mortgage on 18 July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Z has priority as Z’s mortgage reg’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rror Principle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228600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eed only be concerned with interests reflected - or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irror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- in 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the example C could rely on B being shown on register as registered proprie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Torrens Tit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would be successfu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urtain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You don’t have to look behind th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an interest is not registered you are not bound b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t also means you as bona fide purchaser are not affected by a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fe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n the registered proprietor’s chain of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of a void instrument can confer a  vali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surance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eople may be disadvantaged by the operation of the Torren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our examp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will lose her interest in the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rrens system provides mechanism for the government to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mpensate monetaril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for the loss if a person is disadvantaged by the operation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in Differences Betwe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ld System &amp; Torrens Titl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ering under old system merely governed priority between valid doc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Whereas under Torrens title, the act of registratio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fers tit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therefore even invalid document can vest and dives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Frazer v Walker [1967] 1 AC 569 @ 5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Under old system, legal title passed on execution and delivery of deed of convey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Whereas under Torrens system legal titl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oes not pas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ntil the instrument is reg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in Differences Betwe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ld System &amp; Torrens Title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old system, mortgage took effect as a conveyance of land from the mortgagor to the mortag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Whereas under Torrens title mortgage takes effect only as a statutory charge - s74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der old system, one’s title consisted of all the documents making up the chain of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Whereas under Torrens, title consists of what is recorded on the register: s38 LTA. There is only one document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ertificate of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rrens Legislation 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neral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22096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rrelation betwee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nd Title Ac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&amp;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operty Law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dministration of the Land Title 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ertificate of Tit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rrelation With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operty Law 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5 (1) P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is Act shall ... apply to land under the provisions of the Land TItle Act, including any lease of such land, bu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bject to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he provisions of that Act. 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operty Law Act as a statute of general application takes effect subject to the specific provisions of the Land Title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ministration Of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Land Title 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r of Titles administers the Land Title Act - s6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imary responsibility is to keep a register of freehold land - s27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register is the foundation of the Torren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r-General” - s205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ertificate Of Title -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registered owner's name; nature of  coownership (ie. joint tenancy, tenancy in common) if appl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nature of the estate held - eg. fe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legal description of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articulars of encumbrances and other interests (eg. eas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. “Administrative advices”. Some advices will prevent registration of new instruments (eg. Drugs Misuse Act, s34); others are merely info which Registrar is obliged to record (eg. Qld Building Services Authority Act, s4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049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ertificate Of Title - Prov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ach CT is certified by Registrar as current and accurate: s43 LTA. Once issued, conclusive evidence of the particulars contained within it: s46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register may b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fter the certificate is printed, note that a certificate is not conclusive evidence where the register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fact diffe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from the CT: s46(b)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T only issued upon written request: s42 LTA; consent of mortgagee required: s42(2). Cancellation when new dealing - s154(1)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246 Property Law 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2000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ll deeds and other instruments ... mad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ona fid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for valuable consideration and which shall be registered ... shall have and take priority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 according to their respective dat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but according to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iority of their registr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”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paraphr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ll not assist those with express notice of a prior, unregistered interest ... not “bona fi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049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ertificate Of Title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28880" y="129528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urchases an interest in a lot at Broad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quests in writing that the Registrar issue a certificate of title - s 42 LTA ... As land is unencumbered the Registrar will co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rtgages to Eastpac Bank ... To register the mortgage the CT is surrendered for cancellation  -  s 154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r will only issue new CT if mortgagee consents - s 42(2)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2286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Reg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8(1) LTA: “The register may be kept in the form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whether or not in a documentary form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he Registrar considers appropri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4 / Second Schedule “Instrument”: deeds, CT’s, wills, powers of attorney, maps,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 every interest can be registered, eg restrictive covenants - but note s54A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nce registered, form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art of regist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: s175 LTA ...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structive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rsill Enterprises (SG p44)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6765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40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- Right of way + right to build at a height 12 feet above the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72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- Extension of the right of way + transfer of all buildings and airspace over the right of way 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r’s memo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Right of Way created and more fully set out in ... Transfer No: 7922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ld (HC): Registered document #7922 clearly indicated a right of way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0492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Bursill Enterprise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447920"/>
            <a:ext cx="716292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 93: “What is notified to a prospective purchaser by his vendor’s certificate of title is everything that would have come to his knowledge if he had made such searche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ought reasonably to have been made by him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s a result of what there appea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an encumbrance appears on the register or CT, you have constructive notice of the contents of the encumbrace instrument ...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o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o a full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nus on purch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22860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Priorities Between Registered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6002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struments are entitled to priority according to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of lodge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not according to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of execu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f instrument: s178 (1)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s174 LTA: instruments registered when recorded i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s 175 LTA: once registered, deemed to be part of register from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of lo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ce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a) s77 - priority of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b) statutory priority in other legislation - eg.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c) s177 - variation in registratio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ffect Of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4479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1 LTA: “An instrument does not transfer or create an interest in a lot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at la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ntil it is register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registered interests recognised as equitable interests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rry v Heidl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er Isaacs (SG p46);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han v Cresd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@ 257 (SG p46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Torrens statute does not affect personal contractual obligations between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Working rule: Registered - legal; Unregistered - equi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t is not the instrument that passes the legal interest but the act of recording the instrument in register: s182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228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fects In Deed 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37160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hain of title still only as strong as its weakest link: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emo dat quid non 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X purchased the land from A who had stolen deeds from B and forged B’s signature... X has no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fact that the documents were registered did not make an invalid document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ven though documents were reg’d, chain of title still needed to be sear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Torren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29528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sed in many countries; all private land in Qld has been converted to Torren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arwick CJ in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reskvar v Wall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1971) 126 CLR 376, 385-386: “The Torrens system ... is not a system of registration of title but a system of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tle by registr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title [ the register ] certifies is not historical or derivative. It is the title which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gistration itself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has vested in the proprie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rigins Of The Torren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rrens identified 4 major defects in the deeds registr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ew system: wher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act of registr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tself confers title, not the origin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orrens Legislation 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istorical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57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al Property Act (SA) - Act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July 1858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al Property Act (SA) - Act in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61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al Property Act (Q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877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Real Property Act (Qld) -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52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l Property Acts Amendment Act (Q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further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994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nd Title Act (Q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Queensland Law Reform Commission Report no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ocus: ‘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oderniza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rather than alteration’ of the Torren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Pream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ny of the concepts adopted in real property law are surrounded by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enturies of case law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 The concepts are well developed and litigated. The Commission ha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 chosen to disturb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the way in which the central concepts are defin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ree Fundamental Principles Of The Torren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verything that can be registered has been registered and the registered proprietor’s title is immune from attack from anyone holding an unregistered interest.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irror prin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t should not be necessary for a prospective purchaser or mortgagee to investigate the history of a registered proprietor’s titl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Curtain prin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as a result of the operation of the system a party suffers loss or is deprived of his or her land, monetary compensation for loss will be paid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Insurance prin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irror Principl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60020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olds fee simple interest in Black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steals A’s title deed and forges A’s name on a tranfer to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is a bona fide purchaser unaware of fo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tle to Blackacre issues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transfers to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 builds a $200,000 house on Blacka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discovers forgery and brings an action against C for recovery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t common law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would be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s Manager</dc:creator>
  <dc:description/>
  <dc:language>en-US</dc:language>
  <cp:lastModifiedBy>Systems Manager</cp:lastModifiedBy>
  <cp:revision>0</cp:revision>
  <dc:subject/>
  <dc:title>Systems of title in Queensland</dc:title>
</cp:coreProperties>
</file>