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114ffb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Exceptions To Indefeasibility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n Other Stat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efeasibility conferred by LTA can be cut down by provisions in other statutes. Common theme: public interest. 3 eg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x &amp; Ra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Unpaid taxes &amp; rates first charge on land: Land Tax Act s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Compulsory Acquisition &amp; Seiz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see Acquisition of Land Act (2nd Sch); Crimes (Confiscation) Act s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tatutory Right Of Us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ie statutory easement: see s180 Property Law 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B: servient owner must be adequately compensated. Statutory right may be reg’d &amp; bind all subsequent owners: s180(4) P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rusts - s109,110 L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usts not registrable under Tor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109 / 110 LTA - Trustee can hold legal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110(3)- Trust deed must b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posit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transf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NB: “Deposited” not “registered”. Trust document do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orm part of the register: see s110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aveats 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e s121 - s131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y be defin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warning. An entry made in the registry or court to prevent a certain step being taken without previous notice to the person entering the cavea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veats protect unreg’d interests. They do not create any new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dging caveat will temporarily ‘freeze’ the register and preserve the status qu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Effect Of Lodging A Cav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124(1) LTA: A caveat prevents registration of an instrument affecting the lot from the date and time of lod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4(2) - Still able to register an intrument if you have the consent of caveator (para ‘b’) or your instrument will not affect the caveator’s interest (para ‘e’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 of lodging a caveat: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t warns all those dealing with the reg’d proprietor that an unregistered interest in the property is being clai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ho May Lodge A Cav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52388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122(1)(a) - a person claiming an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rest’ - not defined in LTA but see the Acts Interpretation Act s36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(a) a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legal or equitable estate in l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other property; or (b) a right, power or privilege over, or in relation  to the land or other prope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purely personal interest will not support a caveat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 PT Earthmoving Pty Ltd’s Cave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G p5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ties cannot confer a right to caveat merely by providing for such in their agreement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sun P/L v Tahore Holdin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1990) NSW Conv R 55-523 … cf. a charge over land to secure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hre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A purchaser under a contract of 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Equitable mortgagee’s cav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To protect interest of beneficiary unde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oes the caveator have an interest in 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049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1. Purchaser Under Sale Contr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6765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rchaser entitled to lodge caveat against vendor’s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al contracts (ie subject to finance, local gov’t approval) traditionally viewed as not supporting a cav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recently, conditional contracts seen as sufficient to support a cav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uper v Keywest Construc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/L (SG p58): “sufficient to ground a caveat … notwithstanding the conditional nature of the contra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 Henderson’s Cave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G p58): “wide enough to encompass a conditional contra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04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2. Equitable Mort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67652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ways to cre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By deposit of title - s75(1)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s30A old RPA, equitable mortgagee could lodge non-lapsing cav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LTA, equitable mortgagee can no longer lodge non-lapsing caveat - s122(2) … caveat will lapse after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By executing bill of mortgage but no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. Beneficiary Under A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251460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eneficiary may lodge cav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For example, if a trustee (reg’d prop) is about to sell off trust property to a purchaser 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each of tr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, beneficiary could lodge a caveat under s122 LTA to prevent the s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nsation Provisions -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8288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rd fundamental principle of Torren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rrens system gives paramountcy to the current reg’d proprietor. An innocent party may suffer loss through no fault of thei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rar General v Beh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G p55 High Court) per Gibbs J: “a successful plaintiff can recover damages commensurate with the loss sustained as a consequence of the wrongful deprivation - damages that will put him in the same position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 far as money can do 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as if the deprivation had not occurre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unded by transaction fees; historically the ‘Assurance Fund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Who Is Entitled To Compens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8(1): deprived of land or interest i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ote paragraphs: (a) fraud, (g) negligence by Registrar, (b) incorrect creation, (e) tamp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188A: loss or damage. Note fraud is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hile s188 covers loss of land, s188A covers other associated losses eg. recovery of leg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76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isentitlement - s189 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143000"/>
            <a:ext cx="7162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1) s189(1)(a) - Loss Due To Breach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eg. Executor in breach of 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2) s189(1)(b) - Contribution To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ie. by person, their agent or solici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Would arguably cov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ibutory neglige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nd situations where fraudulent party is armed by claimant with means of going out into the world und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lse col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neglect”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ee Registrar of Titles v Fairles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1997] 1 VR 404: trust not of itself neglect,  neglect means failing to take reasonable care of one’s own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“purporting to act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e whether or not  actually retained …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clusion jus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2. How Do You Obtain Compens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205740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rst apply to the Registrar. Under LTA there is no prerequisite that you first proceed against the wrongdoer. If the Registrar refuses application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y to the Supreme Court for an order under s188B 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receive compensation, State acquires the right to recover from wrongdoer: s190 LTA. This is called ‘subrogation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3. Time Limitation On Cla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limitation period in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 old RPA, you had 6 years from cause of deprivation, eg. fraud. This caused hardship, eg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ardsley v Registr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G p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y not expressly specifying limitation period, s10(1)(d) Limitation of Actions Act may apply to LTA, ie. 6 years from date of deprivation or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practical terms, back to the same position as under the 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228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4. Concept Of Depr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privation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Deprivation of Equitabl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artial 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Total Deprivation Of Legal / Reg’d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a) Deprivation Of Equitable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188: “interes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Extends to the deprivation of equitable interest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lliams v Papwor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SG p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NB: s189(1)(b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- if you neglect to register you may have substantially contributed to your loss and hence be disentitled to compens’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22860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cept Of Deprivation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44792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b) Partial Deprivation - deprivation which falls short of total dep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eg. Heron v Broadbent, mortgage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hat if the mortgage is worth more than the value of the l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e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Keddell v Regaros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SG p55): “The damages recoverable is ordinarily th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less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f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mount secured by the mortgag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value of the land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 However, the higher amount may be recovered where that is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sonabl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betweeen the partie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c) Total Deprivation - ie. no longer able to recover land. Eg. Frazer v Wal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5. Date For Fixing Compen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lder authorities suggest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of depriv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se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ncer v Registrar of Titl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[1908] A.C. 235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rar of Titles v Crow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1947) 75 CLR 1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recently, Mahoney JA suggested compensation should be paid a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e of judg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se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rar General v Beh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[1980] 1 NSWLR 589 (NSW Court of App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absence of clear authority - uncertai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stems Manager</dc:creator>
  <dc:description/>
  <dc:language>en-US</dc:language>
  <cp:lastModifiedBy>Systems Manager</cp:lastModifiedBy>
  <cp:revision>0</cp:revision>
  <dc:subject/>
  <dc:title>Four main classes of Exceptions to  Indefeasibility</dc:title>
</cp:coreProperties>
</file>