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114ff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nregistered Instruments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re is nothing in the Land Title Act which affects the enforceability of an instrumen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s between the parti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to that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e. a party can enforce a contrac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‘in personam’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against the other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83 LTA - statutory right to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arties to an instrument obtain rights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 equ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pending registration but these will generally not bind persons who ar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ot a par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to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bdivis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220968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80 - The benefits of indefeasibility apply to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volunteer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ie those who not not give valuable conside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81 - An instrument does not transfer or create an interest in a lo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t la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until it is regi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83 - Right to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304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bdivis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84(1) - Codifies concept of inde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 registered proprietor holds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ubject to registered intere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but free from all other interes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84(2)(a) - “A registered proprietor is not affected by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ctu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or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nstructive notic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of an unregistered intere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B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you must read s184 (1) &amp; (2) in conjunction with s184(3)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84(3) - “ss(1) and (2) do not apply (a) to an interest under s185 or (b) if there has been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fraud by the r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istered proprieto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808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Is Not Fraud Under 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educe from s184(3) and s184(2)(a) that actual or constructive notice of an unreg’d insterest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does not constitute frau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under L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der old system title, purchaser was bound by equitable interests he/she had notice 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 kinds of notice: Actual (personally aware), Constructive (reas. search), Imputed (ag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der old system, attempting to take legal estate with intention of not honouring equitable interest was equitable f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orrens title reverses this -  s184(2)(a) LTA /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riedman v Barret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(SG p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2286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riedman v Barr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44792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arrett had lease of premises at Burle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ease: 3 years + options to renew, unreg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and subject to lease sold to Fried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riedman knew of lease and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ease expired - B advised F that he was exercising option. F did not resp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ntinued to accept rent, then notice to q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eld (SC): despite F having actual notice, upon reg’n, he took the land free of the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ibbs J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Reg’n with actual notice is not Torrens fraud … “dishonesty, contrivance” required (see p152-15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304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gistration Of Void Instr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600200"/>
            <a:ext cx="7162920" cy="46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is owner of fee simple in Blackacre under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forges A’s signature on a transfer to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deals with Z as A’s agent and is unaware of the fr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NB: transfer to B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i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because of forg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 registers the transfer and CT issues to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and B are both innocent: who wears the lo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 the absence of fraud by party registered does the registration of a void instrument immediately confer an indefeasible tit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…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eferred v immediate indefeasibility 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mmediate Inde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133720"/>
            <a:ext cx="71629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 purchaser who without fraud becomes registered as proprietor acquires an indefeasible tit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mediately upon registr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even if the instrument is void or voi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e. in our example as soon as B registers the transfer he would obtain indefeasible title - A would have no right to th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ferred Indefeasibil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n instrument which was void before registr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ains so as between the parti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after registration. As between the parties themselves, registration cannot make the void instrument va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Indefeasabili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y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 does not attach until the proper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y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 is transferred to another bona fide purchaser for valu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e. in our example, B’s title would not be indefeasible but if B transfers to C, C would be indefea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 to individual to check bona fides of person they’re dealing with: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x p. Dav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(1888) 6 NZLR 7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ich Doctrine Is La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228600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nswer requires consideration of 4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all SG p 48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 Gibbs v Messer [1891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 Boyd v Mayor of Wellington [1924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. Frazer v Walker [196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. Breskvar v Wall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15228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ibbs v Mes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37160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rs M was reg’d proprietor of land in Vic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der power of attorney (PA), authorised Mr M to deal with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r &amp; Mrs M moved, left PA and certificate of title with their solicitor, Cres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 forged transfer of Mrs M’s land to a fictitous person “Hugh Cameron”, and purporting to act for Cameron arranged loan from McInty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cIntyre reg’d mortgage. Creswell absco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eld (PC): apparently apply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erred indefea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, McIntyre reg’d mortgage was invalid, new title should issue to Mrs M free and clear of the mortgag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ibbs v Messer - Three Rat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gistration of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oid instru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does not confer an indefeasible title even if the person registered acted in good 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gistration of an instrument which is void because it is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ger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does not confer an indefeasible title even if the person registered acted in good 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gistration of an instrument, executed by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rg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using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ctitious nam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, does not confer indefeasible title even if the person registered acted in good 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nregistered Interests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bigail v Lapi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(SG p46) -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quitab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interest pending registration,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eg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interest once regist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oes an equitable interest arise from th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registered instru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or the underlying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ntractual transaction?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e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 enters into a 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les agree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with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 executes an unregister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hich document creates the equitable inter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nswer: underlying contract -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arry v Hei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(SG p46);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han v Cresdon Pty Lt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(SG p4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oyd v Mayor of Well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 was reg’d proprietor of land in Well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’s land was compulsorily acquired by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on registration, Boyd’s title extingu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oclamation held void, was B entitled to have new title re-issued in his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eld (NZ CA - 3/2): reg’n conferred an indefeasible title in the City of Wellington. Court thus applied the doctrine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mediate indefeasib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22860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razer v 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6765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r &amp; Mrs F joint reg’d proprietors in 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rs F forged husband’s signature on mortgage to Mr &amp; Mrs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r &amp; Mrs R registered the mort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r &amp; Mrs R had no knowledge of fo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 exercised power of sale; bought by Mr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 had no knowledge; transfer to W reg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eld (PC): Mr &amp; Mrs R had acquired an indefeasible title on reg’n. PC decided conclusively in favour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mediate indefea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razer v Walk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584 - “Boyd’s case w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ightly decid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and that the ratio of that decision applies as regards titles derived from registration of void instruments generall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ibbs v Mess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p584 - “The Board was then concerned with the position of a bona fide purchaser for value from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ctitious pers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and the decision should be distinguished from the case of a bona fide purchaser from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registered proprie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reskvar v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4479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s were reg’d prop’s of land in Acacia 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s borrowed money from Pe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s security, gave blank, signed transfer &amp; 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etrie, acting as agent for W, inserted W on transfer and reg’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, still acting for W, sold land to Alban Pty L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s found out about fraud and lodged cav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eld (HC): Appli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mediate indefeasibilit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. Reg’n of transfer from Bs to W vested title in Wall. The equitable interest of Alban should take priority. Bs left with claim against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mmediate infeasibility governs in Q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utside Qld, check legislation and cases to see whether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raz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and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reskva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have been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o court has overturned narrowest ratio in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ibbs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… deferred indefeasibility may continue to apply to instruments executed by a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orger using a fictitou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iority Between Holders Of Unregistered Inter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236232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asic rule: Competing equitable interests prima facie take priority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 the order in which they ar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is prima facie position may be displaced if there is a reason to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ostpon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prior interest holder based on th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quities of th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e. if it is inequitable to apply the general rule, the Court of Equity will not apply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bigail v Lapin (SG p46)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apins were reg’d proprietors of Torren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apins executed transfer in the name of a creditor, to be held as securit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ntrary to agreement, creditor reg’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reditor mortgaged land to Abig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apins reg’d a cav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equitable interes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: prior equitable interest of Lapins, subsequent equitable interest of Abig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bigail v Lapin -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09800" y="2000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ivy Council h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apins prior equitable interest should be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postpon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to Abigail’s subsequent equitable interes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Lapins had created a situation which allowed the creditor to go out into the world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der false colou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, ie representing he was the true ow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ases Post Abigail v La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3716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reskvar v Wal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(SG p46) - Mr &amp; Mrs B gave a creditor a blank, signed transfer form, along with their CT. Held (HC): The Breskvars’ earlier interest should be postpo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ark v Raymor (Brisbane) (No 2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[1982] Qd R 790 -  Plumber (P) gave R charge over land and later sold land to Mr &amp; Mrs C. R found out about sale and entered cav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eld: R’s interest should be postponed. Raymor had done nothing to protect its interest, leaving P free to deal with th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ll acts and omissions of either party … may be relevant, irrespective of the time when they occurred” (@ p7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Concept Of Inde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iteral meaning of “indefeasibl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ot liable to be defeated, made void, done away with; that cannot be forfei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halan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orrens Title in Australia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p297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defeasibility is a shield which will ward off most attacks on a title, but which will b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ierced with fatal result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to the title which it guards,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y the sword of a later indefeasible tit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gislative Scheme - Old Ac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l Property Act 18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44 - paramountcy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23 - ejectment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33 - evidence provision                    s184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09 - notice provision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26 - protection of                             s185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urchasers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l Property Act 18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51 - equitable inter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828800"/>
            <a:ext cx="4952880" cy="4267080"/>
          </a:xfrm>
          <a:prstGeom prst="rect">
            <a:avLst/>
          </a:prstGeom>
          <a:noFill/>
          <a:ln w="12600">
            <a:solidFill>
              <a:srgbClr val="fe9b0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29480" y="3962520"/>
            <a:ext cx="514080" cy="0"/>
          </a:xfrm>
          <a:prstGeom prst="line">
            <a:avLst/>
          </a:prstGeom>
          <a:ln w="12600">
            <a:solidFill>
              <a:srgbClr val="fe9b0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gislative Scheme 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and Title Act 1994 - Part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236232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Division 1, Part 9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Registration of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Division 2, Part 9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sequences of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ree Subdivisions in Division 2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ubdivision A - General (Benefits and Eff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ubdivision B - The Indefeasibility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ubdivision C - The Compensation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stems Manager</dc:creator>
  <dc:description/>
  <dc:language>en-US</dc:language>
  <cp:lastModifiedBy>Systems Manager</cp:lastModifiedBy>
  <cp:revision>0</cp:revision>
  <dc:subject/>
  <dc:title>The Register</dc:title>
</cp:coreProperties>
</file>