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Concept Of Title To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ei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iterally “to sit”; more accurately “possession of land by a freehol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aditionally, lessee held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ossess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lessor (the freeholder) held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ei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ior to Tenures Abolition Act 1660, person seised of land was the only person from whom the lord could demand feud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re should never be an abeyance of sei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 G: To X in fee simple one year after my death ... (note the gap in the legal e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olution Of Private Conveyancing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eoffment with livery of sei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veyance        delivery of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 convey this land to you and your heirs. Enter unto this land and god give you joy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733400" y="2438280"/>
            <a:ext cx="0" cy="838440"/>
          </a:xfrm>
          <a:prstGeom prst="line">
            <a:avLst/>
          </a:prstGeom>
          <a:ln w="1260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91080" y="2457360"/>
            <a:ext cx="799920" cy="781200"/>
          </a:xfrm>
          <a:prstGeom prst="line">
            <a:avLst/>
          </a:prstGeom>
          <a:ln w="12600">
            <a:solidFill>
              <a:srgbClr val="fe9b0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volution Of Private Conveyancing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t first, no documentary evidenc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os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atute of Fraud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written evidence became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8 Property Law Act (Qld): “All interests in land shall lie i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ra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shall be incapable of being conveyed by livery of seisin, or by lease and release .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atute of Use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- “lease and release” did away with need for public feoffment with livery of seisin - hence public conveyancing became private - s8 now abolishes lease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22860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fects In Privat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veyancing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600200"/>
            <a:ext cx="71629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237(1) Property Law Act - good chain of title for 30 years req’d ... still no guaran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Nemo Dat Quid Non Hab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X forges transfer to B, B and C’s title not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66680" y="3657600"/>
            <a:ext cx="1523880" cy="1523880"/>
          </a:xfrm>
          <a:prstGeom prst="rect">
            <a:avLst/>
          </a:prstGeom>
          <a:solidFill>
            <a:srgbClr val="3365fb"/>
          </a:solidFill>
          <a:ln w="12600">
            <a:solidFill>
              <a:srgbClr val="fe9b0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57600" y="3733920"/>
            <a:ext cx="1676520" cy="1447920"/>
          </a:xfrm>
          <a:prstGeom prst="rect">
            <a:avLst/>
          </a:prstGeom>
          <a:solidFill>
            <a:srgbClr val="3365fb"/>
          </a:solidFill>
          <a:ln w="12600">
            <a:solidFill>
              <a:srgbClr val="fe9b0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  <a:ea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3733920"/>
            <a:ext cx="1600200" cy="1447920"/>
          </a:xfrm>
          <a:prstGeom prst="rect">
            <a:avLst/>
          </a:prstGeom>
          <a:solidFill>
            <a:srgbClr val="3365fb"/>
          </a:solidFill>
          <a:ln w="12600">
            <a:solidFill>
              <a:srgbClr val="fe9b03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495680"/>
            <a:ext cx="628920" cy="0"/>
          </a:xfrm>
          <a:prstGeom prst="line">
            <a:avLst/>
          </a:prstGeom>
          <a:ln w="1260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38600" y="4419720"/>
            <a:ext cx="609480" cy="0"/>
          </a:xfrm>
          <a:prstGeom prst="line">
            <a:avLst/>
          </a:prstGeom>
          <a:ln w="12600">
            <a:solidFill>
              <a:srgbClr val="fe9b0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fects In Private Conveyancing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22096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ocuments may be valid but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 easement may be o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ocuments held by private individuals - potential for fraud wa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document lost or destoyed, proof of title depended on secondary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certainties as to exac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veyancing was time consuming and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ystems Of Title In Queen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676520"/>
            <a:ext cx="7162920" cy="73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nregister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s3 PLA: fee simple land not registered or subject to Land Act (ie Crown L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“old system land”; “old system tit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Register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s3 PLA: land under the Land Title Act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“Torrens system l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 Land held under Crown Lease or L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and Held Under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rown Lease or Lic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228600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overned by Land Act (not Land Title 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276 Land Act 1994 - Register of all leases and lic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1.1 Mineral Resources Act 1989 - Register kept of all mining leases and exploration perm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nregistered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228600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e. ‘old system land’ or ‘general law lan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Queensland today virtually no old system land is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ill exists in Victoria and New South W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eeds Registr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art 18 Division 3 Property Law Act 1974 (Q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eeds could be registered in gov’t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and time of registration endorsed on 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and time of registration determined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5335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Meaning Of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I sa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‘X h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o the land called Blackac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 mean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a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has the best right to possession;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b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has any right to possession (no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ecessarily the b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ood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I sa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‘X ha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ood tit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o the land Blackac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 am saying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a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can successfully resist any claim fo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ossession of th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b)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X is dispossessed, she can recov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ossession of Blackacre from the person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ho dispossessed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ignificance Of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28600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possibility of a good titleholder being dispossessed by another should b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inimi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ecurity of title is essential to a sound economy and leg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808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lativity Of Title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52388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: To A for life, then to B in fe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 between A and B, A has a better right to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 between B and X (a squatter), B has a better right. X cannot refer to A’s bette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plaintiff in an action for the recovery of possession of land need not prove a better right to possession than that of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an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ther perso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plaintiff need only prove a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latively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etter right to possession than that of the </a:t>
            </a:r>
            <a:r>
              <a:rPr b="1" lang="en-US" sz="24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defe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8088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lativity Of Title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6765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ord Diplock i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cean Estates v Pin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[1969] 2 AC 19 @ p2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A can prove a better title than B he is entitled to succeed notwithstanding that C may have a better title than A, if C is neither a party to the action nor a person by whose authority B is in possession or ocupation of the lan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her v Whitlock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37) - A’s title was superior to W’s, but note that W’s title would be superior to JB, a person with no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lativity Of Title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295280"/>
            <a:ext cx="7162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erry v Clissol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SG p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annot be disputed that a person in possession ... has a perfectly good title against all the world but the rightful ow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bo v Queenslan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(No.2) (SG p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Prima facie, a possessor acquires a fee simple estate because the fullest estate known to the law is presu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Possession gives rise to the right to defend poss’n and to sell or devise the poss’ry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. As between possessors, prior possession is a better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imitation Of Action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erry v Clissold: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"If the rightful owner does not assert his title within the period prescribed by the Statute of Limitations, his right is forever extingished, and the possessory owner acquires a complete tit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A s13: An action shall not be brought by a person to recover land after the expiration of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welve years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from the date on which the right accr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A s14:  Limitation period commences when  claimant has been dispossessed or when claimant discontinues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imitation Of Action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A s29(1) - extension of time for those under disability. NB: 30 years max - s29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AA s24 - When time limit is reached, title is automatically extingu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ulcahy v Curramore Pty Lt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[1974] 2 NSWLR 464 - Count each successive inheritor's time to make up limitation perio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ulcahy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: continuous series of tresspassers can also extinguish a true owner's title; however, NB: need for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stems Manager</dc:creator>
  <dc:description/>
  <dc:language>en-US</dc:language>
  <cp:lastModifiedBy>Systems Manager</cp:lastModifiedBy>
  <cp:revision>0</cp:revision>
  <dc:subject/>
  <dc:title>Possession - Jus Tertii</dc:title>
</cp:coreProperties>
</file>